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736F0CF-7D30-442F-885C-252C2FC1CA3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74D8A57-22D8-4324-A2D2-2901FD502BB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8894-7C37-4488-B7C3-CC47744C94E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49F-4098-4F5A-B4F0-93E1A1E8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738A-CD85-4443-8ED4-DB437372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0D18-C0BD-418C-9360-F9B3D377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72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0036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44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72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0036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559C-8277-43A2-A86E-D344F9E5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0191-19EB-4122-B03C-D5FB9D78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6E35-9E40-4704-BB0D-46058077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0072-5B34-44A2-987C-915DD912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D7A4-9579-4452-88F6-04877947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A8A6-81F5-4501-B98F-4B2B7835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66F8-5B14-4F6F-8121-DECCFECE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5CD1-CFE5-498B-843B-6DE631B4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4CF5-4D64-407A-84E9-09BDB036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6DA0-2C10-43FF-A4C1-302C50C3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5D81-B1C7-47B3-AA94-5410F8FC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1A0C-C334-4EED-8312-0CB23DAA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F6FF-265C-4806-B701-334FB959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72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0036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44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72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0036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DA38-DFE2-494A-9388-0FAF34D2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4DB7-A8F0-4359-9436-A89F1311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F0F2-D16B-404F-B754-F8CC5A58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077D-BD70-4F3E-9578-4E2C9F99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28B4-E45D-4B0D-93C4-E14F051C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1295-D434-4A57-A15E-01939920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FF0C-6F7F-48DC-9893-34CD8932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0C1A-35A6-4405-93C6-B56364E4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700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620720" indent="-27144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665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8E0C-BE02-461B-BEBA-8003A7F7AE00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260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971640" y="1028880"/>
            <a:ext cx="7996320" cy="0"/>
          </a:xfrm>
          <a:prstGeom prst="line">
            <a:avLst/>
          </a:prstGeom>
          <a:ln w="1908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1109520" y="264960"/>
            <a:ext cx="8263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0" y="2819520"/>
            <a:ext cx="755640" cy="4038480"/>
          </a:xfrm>
          <a:prstGeom prst="rect">
            <a:avLst/>
          </a:prstGeom>
          <a:gradFill rotWithShape="0">
            <a:gsLst>
              <a:gs pos="0">
                <a:srgbClr val="00458a"/>
              </a:gs>
              <a:gs pos="100000">
                <a:srgbClr val="1f5c98"/>
              </a:gs>
            </a:gsLst>
            <a:lin ang="5400000"/>
          </a:gradFill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9"/>
          <p:cNvSpPr/>
          <p:nvPr/>
        </p:nvSpPr>
        <p:spPr>
          <a:xfrm>
            <a:off x="0" y="0"/>
            <a:ext cx="755640" cy="2852640"/>
          </a:xfrm>
          <a:prstGeom prst="rect">
            <a:avLst/>
          </a:prstGeom>
          <a:noFill/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logo_mcc_orizzontale NO MCC"/>
          <p:cNvPicPr/>
          <p:nvPr/>
        </p:nvPicPr>
        <p:blipFill>
          <a:blip r:embed="rId2"/>
          <a:stretch/>
        </p:blipFill>
        <p:spPr>
          <a:xfrm>
            <a:off x="82440" y="-171360"/>
            <a:ext cx="563760" cy="32511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0" y="6151680"/>
            <a:ext cx="789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3CFE-B059-434B-8522-DC306521707B}" type="slidenum">
              <a:rPr b="1" lang="it-IT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5"/>
          <p:cNvSpPr/>
          <p:nvPr/>
        </p:nvSpPr>
        <p:spPr>
          <a:xfrm>
            <a:off x="1046160" y="3357720"/>
            <a:ext cx="7773840" cy="0"/>
          </a:xfrm>
          <a:prstGeom prst="line">
            <a:avLst/>
          </a:prstGeom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6"/>
          <p:cNvSpPr/>
          <p:nvPr/>
        </p:nvSpPr>
        <p:spPr>
          <a:xfrm>
            <a:off x="1046160" y="4149720"/>
            <a:ext cx="7773840" cy="0"/>
          </a:xfrm>
          <a:prstGeom prst="line">
            <a:avLst/>
          </a:prstGeom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2"/>
          <p:cNvSpPr/>
          <p:nvPr/>
        </p:nvSpPr>
        <p:spPr>
          <a:xfrm>
            <a:off x="0" y="0"/>
            <a:ext cx="755640" cy="6858000"/>
          </a:xfrm>
          <a:prstGeom prst="rect">
            <a:avLst/>
          </a:prstGeom>
          <a:gradFill rotWithShape="0">
            <a:gsLst>
              <a:gs pos="0">
                <a:srgbClr val="00458a"/>
              </a:gs>
              <a:gs pos="100000">
                <a:srgbClr val="1f5c98"/>
              </a:gs>
            </a:gsLst>
            <a:lin ang="5400000"/>
          </a:gradFill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5"/>
          <p:cNvSpPr/>
          <p:nvPr/>
        </p:nvSpPr>
        <p:spPr>
          <a:xfrm>
            <a:off x="1042920" y="6165720"/>
            <a:ext cx="7774200" cy="0"/>
          </a:xfrm>
          <a:prstGeom prst="line">
            <a:avLst/>
          </a:prstGeom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8" descr="logo_mcc_orizzontale NO MCC"/>
          <p:cNvPicPr/>
          <p:nvPr/>
        </p:nvPicPr>
        <p:blipFill>
          <a:blip r:embed="rId2"/>
          <a:stretch/>
        </p:blipFill>
        <p:spPr>
          <a:xfrm>
            <a:off x="361800" y="477720"/>
            <a:ext cx="4978440" cy="863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700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620720" indent="-27144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04292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D232-464A-45F5-9849-9084AECB3587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30/07/26</a:t>
            </a:fld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7652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436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46FD-8968-4D68-8137-40393466C40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3"/>
          <p:cNvSpPr/>
          <p:nvPr/>
        </p:nvSpPr>
        <p:spPr>
          <a:xfrm>
            <a:off x="0" y="6151680"/>
            <a:ext cx="78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F7FC-8B8D-4EBD-8E34-1C9DB2028ADB}" type="slidenum">
              <a:rPr b="1" lang="it-IT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826920" y="252360"/>
            <a:ext cx="8137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ttuazione del decreto 26 giugno 2012: le percentuali di copertura e l’importo massimo garant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0"/>
          <p:cNvSpPr/>
          <p:nvPr/>
        </p:nvSpPr>
        <p:spPr>
          <a:xfrm>
            <a:off x="971640" y="1105920"/>
            <a:ext cx="7993080" cy="234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sp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Le percentuali di copertura e l’importo massimo garanti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asellaDiTesto 1"/>
          <p:cNvSpPr/>
          <p:nvPr/>
        </p:nvSpPr>
        <p:spPr>
          <a:xfrm>
            <a:off x="1001880" y="3716280"/>
            <a:ext cx="78786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Operazioni a favore delle piccole imprese dell’indotto di imprese in amministrazione straordinaria di durata non inferiore a 5 anni: quota di copertura 80% e importo massimo garantito € 1,5 ml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sellaDiTesto 39"/>
          <p:cNvSpPr/>
          <p:nvPr/>
        </p:nvSpPr>
        <p:spPr>
          <a:xfrm>
            <a:off x="1001880" y="1383480"/>
            <a:ext cx="7878600" cy="31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Operazioni di Garanzia</a:t>
            </a: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diret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asellaDiTesto 40"/>
          <p:cNvSpPr/>
          <p:nvPr/>
        </p:nvSpPr>
        <p:spPr>
          <a:xfrm>
            <a:off x="1001880" y="4083840"/>
            <a:ext cx="7878600" cy="31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Operazioni di Controgaranz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sellaDiTesto 41"/>
          <p:cNvSpPr/>
          <p:nvPr/>
        </p:nvSpPr>
        <p:spPr>
          <a:xfrm>
            <a:off x="1001880" y="6453360"/>
            <a:ext cx="78786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Operazioni a favore delle piccole imprese dell’indotto di imprese in amministrazione straordinaria di durata non inferiore a 5 anni: quota di copertura 80% di 80% e importo massimo garantito € 1,5 ml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"/>
          <p:cNvPicPr/>
          <p:nvPr/>
        </p:nvPicPr>
        <p:blipFill>
          <a:blip r:embed="rId1"/>
          <a:stretch/>
        </p:blipFill>
        <p:spPr>
          <a:xfrm>
            <a:off x="1042920" y="1733400"/>
            <a:ext cx="7777080" cy="1982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"/>
          <p:cNvPicPr/>
          <p:nvPr/>
        </p:nvPicPr>
        <p:blipFill>
          <a:blip r:embed="rId2"/>
          <a:stretch/>
        </p:blipFill>
        <p:spPr>
          <a:xfrm>
            <a:off x="1042920" y="4437000"/>
            <a:ext cx="77770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09:41:48Z</dcterms:created>
  <dc:creator>ccara</dc:creator>
  <dc:description/>
  <dc:language>en-US</dc:language>
  <cp:lastModifiedBy>FBrunori</cp:lastModifiedBy>
  <cp:lastPrinted>2012-11-08T12:02:55Z</cp:lastPrinted>
  <dcterms:modified xsi:type="dcterms:W3CDTF">2012-12-05T18:38:12Z</dcterms:modified>
  <cp:revision>470</cp:revision>
  <dc:subject/>
  <dc:title>Diapositiva 1</dc:title>
</cp:coreProperties>
</file>